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CD8AC-57FC-42A6-8F73-D7973C961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D24B8-77E2-4E25-9BBF-49B36764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2F3F7-B4A9-4D5C-8B93-3278B28C2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68960-3011-4D79-8840-C12CA46C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F9EF4-0E47-4BAA-AB13-B8789451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B67E-252D-40D7-90DB-DFFB721D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5FD5-5FDC-418E-9716-D41CDBB4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982A-A2E6-42EA-945F-65DD5504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1F4D-7108-4D06-8BC3-01DF141C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BE88-AF3A-4100-BB80-4EF615EFB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6846-8E1B-4350-A84B-EB9F295E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6D45-D9FF-4073-AE1A-016613870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B057-B56E-4A8A-8ED6-EA1D24065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Blue Wh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333399"/>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omas</a:t>
            </a:r>
            <a:endParaRPr b="0" lang="en-US" sz="3200" spc="-1" strike="noStrike">
              <a:solidFill>
                <a:srgbClr val="000000"/>
              </a:solidFill>
              <a:latin typeface="Arial"/>
            </a:endParaRPr>
          </a:p>
        </p:txBody>
      </p:sp>
      <p:pic>
        <p:nvPicPr>
          <p:cNvPr id="43" name="" descr=""/>
          <p:cNvPicPr/>
          <p:nvPr/>
        </p:nvPicPr>
        <p:blipFill>
          <a:blip r:embed="rId1"/>
          <a:stretch/>
        </p:blipFill>
        <p:spPr>
          <a:xfrm rot="20625000">
            <a:off x="3131640" y="333360"/>
            <a:ext cx="2592360" cy="17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333399"/>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Whales Are an Endangered species along with albatrosses, penguins, and turt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re are only a few hundred left in the world!</a:t>
            </a:r>
            <a:endParaRPr b="0" lang="en-US" sz="28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it looks like:</a:t>
            </a:r>
            <a:endParaRPr b="0" lang="en-US" sz="2800" spc="-1" strike="noStrike">
              <a:solidFill>
                <a:srgbClr val="000000"/>
              </a:solidFill>
              <a:latin typeface="Arial"/>
            </a:endParaRPr>
          </a:p>
        </p:txBody>
      </p:sp>
      <p:pic>
        <p:nvPicPr>
          <p:cNvPr id="47" name="" descr=""/>
          <p:cNvPicPr/>
          <p:nvPr/>
        </p:nvPicPr>
        <p:blipFill>
          <a:blip r:embed="rId1"/>
          <a:stretch/>
        </p:blipFill>
        <p:spPr>
          <a:xfrm>
            <a:off x="4859280" y="2637000"/>
            <a:ext cx="35956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ue Wha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les die from a lot of things and this is just one of the way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403280" y="26370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ched Whal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you have seen a beached whale or seen the “beach’d as” cartoons (or some other reason) you will now how they get there and if not read 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ched Wha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les are very smart and have very unique ways of doing things like using their voices to call to each other. But sometimes they don’t know which way is land or sea. So they end up on beaches, but some whales are lucky because they can get washed back out to sea or people can push them back out (luck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ve seen my pictures but here are some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mother and her bab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979640" y="3213000"/>
            <a:ext cx="5183280" cy="34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keleton of a Blue Whale:</a:t>
            </a:r>
            <a:endParaRPr b="0" lang="en-US" sz="3200" spc="-1" strike="noStrike">
              <a:solidFill>
                <a:srgbClr val="000000"/>
              </a:solidFill>
              <a:latin typeface="Arial"/>
            </a:endParaRPr>
          </a:p>
        </p:txBody>
      </p:sp>
      <p:pic>
        <p:nvPicPr>
          <p:cNvPr id="59" name="" descr=""/>
          <p:cNvPicPr/>
          <p:nvPr/>
        </p:nvPicPr>
        <p:blipFill>
          <a:blip r:embed="rId1"/>
          <a:stretch/>
        </p:blipFill>
        <p:spPr>
          <a:xfrm>
            <a:off x="1042920" y="1268280"/>
            <a:ext cx="7129440" cy="53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333399"/>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n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bbe0e3"/>
          </a:solidFill>
          <a:ln w="9360">
            <a:solidFill>
              <a:srgbClr val="ffffff"/>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Watching/Reading and Enjoy the rest of your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o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05:51:46Z</dcterms:created>
  <dc:creator>Steve Clarkson</dc:creator>
  <dc:description/>
  <dc:language>en-US</dc:language>
  <cp:lastModifiedBy>Steve Clarkson</cp:lastModifiedBy>
  <dcterms:modified xsi:type="dcterms:W3CDTF">2012-06-07T06:07:39Z</dcterms:modified>
  <cp:revision>2</cp:revision>
  <dc:subject/>
  <dc:title>Endangered Blue Whales</dc:title>
</cp:coreProperties>
</file>